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67354-69AD-4EE6-83E2-6DD0908FD12D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ceptor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（拦截器）将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ion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共用的行为独立出来，在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ion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执行前后运行。这也就是我们所说的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OP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pect Oriented Programming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，面向切面编程），它是分散关注的编程方法，它将通用需求功能从不相关类之中分离出来；同时，能够使得很多类共享一个行为，一旦行为发生变化，不必修改很多类，只要修改这个行为就可以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work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表达式语言的核心是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GNL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ject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ph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gation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guage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，这也是其它两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种非常美妙的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b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开发框架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—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pestry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bObjects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不约而同的选择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ognl.org/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GNL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是一种表达式，通过它简单一致的表达式语法，可以存取对象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的任意属性，调用对象的方法，遍历整个对象结构图，实现自动类型转化等等几乎是所有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ava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语句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能够实现功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业务模型是整个系统中最稳定的部分，而展现给用户的实际界面则经常频繁的变动。</a:t>
            </a:r>
            <a:r>
              <a:rPr b="0" lang="en-US" sz="1200" spc="-1" strike="noStrike">
                <a:solidFill>
                  <a:srgbClr val="000000"/>
                </a:solidFill>
                <a:latin typeface="宋体"/>
                <a:ea typeface="Times New Roman"/>
              </a:rPr>
              <a:t>MVC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把系统易变的部分和相对稳定的部分分离，从而保证了设计和代码的可重用性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work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简洁、灵活功能强大，它是一个标准的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模式实现，并且完全从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b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层脱离出来。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work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提供了很多核心功能：前端拦截机（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ceptor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），运行时表单属性验证，类型转换，强大的表达式语言（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GNL – the Object Graph Notation Language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），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C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version of Control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倒置控制）容器等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bWork2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建立在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work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之上，处理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的响应和请求。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bWork2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使用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rvletDispatcher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将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请求的变成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ion(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业务层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ion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类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), session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（会话）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（应用程序）范围的映射，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请求参数映射。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bWork2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支持多视图表示，视图部分可以使用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SP, Velocity, FreeMarker, JasperReports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ML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等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为什么要实现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ion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接口？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D740C-2124-45DA-8649-F258EBCA4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1AAB0-075D-4440-82CD-D17F1DF31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A42A6-6119-4E25-ADCB-605889099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621FF-79F8-4B48-B491-DC16BC002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22B39-EDF4-415A-B206-805ABB1F4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26AF4-7AF9-45C3-B096-2FC135493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505E2-836E-455A-9EF3-79BBBC9F4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9129E-C686-4DCE-AEFA-2D57E495C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713A6-4C04-4EA9-BE45-CDB7C1BFA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24120-A499-4009-81C7-7458EB7F5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D7164-D924-4D0A-B4BC-2B776787C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CEFB1-55A4-4B2B-8D3C-A39CF0043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2779D-7FD5-43F5-AE45-085AD2C39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15595-01D8-4ADC-868C-131CF6AE4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5ABEC-FC5C-4E73-805D-F6C1E5322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825C6-003D-40E0-BD85-165BC4E56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052FF-3B6A-450B-B275-2966191DE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00DD0-F352-4950-AB0A-AFBC24DC7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2A4FF-22B9-4154-BBE8-791A8271A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F51C9-3780-4AAC-AF17-B295017BB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C9D82-8847-46D4-B844-3FEF96A51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CA05D-2111-40DB-B0C9-B74E6FC30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E1259-7E96-4391-B1E5-4B0567E82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E7777-B8F3-4DB5-88BB-DC17D303C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0ED6A-BEBF-48C7-B7CC-18EFA15B7F2E}" type="slidenum">
              <a:rPr b="0" lang="zh-CN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BD04D-95CB-4F30-B1C2-6C2AE9DD4544}" type="slidenum">
              <a:rPr b="0" lang="zh-CN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WebWork</a:t>
            </a:r>
            <a:r>
              <a:rPr b="0" lang="zh-CN" sz="4000" spc="-1" strike="noStrike">
                <a:solidFill>
                  <a:srgbClr val="000000"/>
                </a:solidFill>
                <a:latin typeface="Verdana"/>
              </a:rPr>
              <a:t>培训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5219640" y="2565000"/>
            <a:ext cx="34848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作者：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xie(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安子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116000" y="3429000"/>
            <a:ext cx="729288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学员要求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：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掌握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Java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Jsp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JavaServlet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，并有一定的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Web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编程经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课程目的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：理解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WebWork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的核心原理，掌握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WebWork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开发的相关知识，并能使用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WebWork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进行实际开发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594BA-6B71-449D-8787-14EC773943B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二、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ebWork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原理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001000" cy="17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Work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的层次：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611280" y="2708280"/>
            <a:ext cx="1584360" cy="7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ctionProx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059280" y="2708280"/>
            <a:ext cx="2233440" cy="7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ctionInvo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84720" y="2708280"/>
            <a:ext cx="1295640" cy="7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195640" y="306864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292720" y="306864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68360" y="3789360"/>
            <a:ext cx="705636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ctionProxy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：管理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ction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的生命周期，它是设置和执行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ction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的起始点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ctionInvocation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：在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ctionProxy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层之下，它表示了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ction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的执行状态。它持有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ction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实例和所有的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tercep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08963-43CB-4C46-AFC9-178D4099436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ebWork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原理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2181240" y="2281320"/>
            <a:ext cx="4772160" cy="3209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96BF0-8657-4F63-8D99-7246980EE41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nterceptor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Verdana"/>
              </a:rPr>
              <a:t>"Practical AOP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"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ery simple, no external dependencies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ows you to intercept action invoca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Help decouple and componentize your cod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Interceptors are organized into 'stacks'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ists of interceptors applied in sequenc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pplied to any action or package of ac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WebWork is mostly implemented as a series of XWork interceptor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00E4E-751D-4686-906E-18EBC45892B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例子－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TimerInterceptor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 class TimerInterceptor implements Interceptor 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ublic String intercept(ActionInvocation dispatcher)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...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long startTime = System.currentTimeMillis();        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tring result = dispatcher.invoke()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long exTime = System.currentTimeMillis() - startTime;       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log.info(dispatcher.getProxy().getActionName() + " ran in " + exTime + "ms.");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resu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xwork.xm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interceptors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interceptor name="timer"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ass="com.opensymphony.xwork.interceptor.TimerInterceptor"/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/interceptors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6BEE3-EA45-42C7-B1F1-EB7FBFC737B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nterceptor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的执行顺序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70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terceptor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截获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tion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的执行，并在它的之前或之后调用相应的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interceptor-stack name="xaStack"&gt;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interceptor-ref name="thisWillRunFirstInterceptor"/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interceptor-ref name="thisWillRunNextInterceptor"/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interceptor-ref name="thisWillRunLastInterceptor"/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/interceptor-stack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isWillRunFirstIntercepto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isWillRunNextIntercepto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isWillRunLastIntercepto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yAction1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yResult (resul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isWillRunLastIntercepto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isWillRunNextIntercepto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isWillRunFirstIntercepto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028EC-A7D1-4759-9E55-F6AE057FE5F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ValueStack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由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GNL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框架实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可以把它简单的看作一个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is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ack Object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：放入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ack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中的对象，一般是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tion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ack Context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p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）：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ack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上下文，它包含一些列对象，包括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quest/session/attr/application map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等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L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：存取对象的任意属性，调用对象的方法，遍历整个对象结构图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BF9AE-23A0-44AA-B007-B97DC6BDB9A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ResultTyp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48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它是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tion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执行之后返回的一个字符串常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它表示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tion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执行完成的状态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sultTyp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它是一个类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它在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tion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执行，并返回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sult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之后调用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它用来决定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ebWork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使用什么方式展现界面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result-type name="dispatcher" class="com.opensymphony.webwork.dispatcher.ServletDispatcherResult" default="true"/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&lt;result name="success" type="dispatcher"&gt;/register/registerSuccess.jsp&lt;/result&gt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29B28-D18E-465C-AB7C-050B2BDE835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三、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ebWork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标签库和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EL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&lt;ww:property value=“”/&gt;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取值输出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&lt;ww:iterator value=“” status=“”/&gt;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迭代标签，可以输出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llection, Iterator, Enumeration, Map, array, XML Node, or XML NodeLis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atus: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用来取得迭代器的状态：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etCount(), getIndex(), isFirst(), isLast(), isEven(), isOdd(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&lt;ww:if test=“”&gt; &lt;/ww:if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&lt;ww:elseif test=“”&gt;&lt;/ww:eleseif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&lt;ww:else&gt;&lt;/ww:else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919DD-B30E-405C-9F6B-13E605738EA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Expression Languag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566640" y="2805120"/>
          <a:ext cx="8001000" cy="3000240"/>
        </p:xfrm>
        <a:graphic>
          <a:graphicData uri="http://schemas.openxmlformats.org/drawingml/2006/table">
            <a:tbl>
              <a:tblPr/>
              <a:tblGrid>
                <a:gridCol w="4000680"/>
                <a:gridCol w="4000320"/>
              </a:tblGrid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GNL Express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sul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mployee.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etEmployee().getName(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mployee.toStr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etEmployee().toString(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mployee.relations[0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irst element of the Relations colle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ame in {null, "Rick"}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ue is name is null or Ri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mployee.relations.{name}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lls getName() on each relations in the collection returning a new colle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611280" y="1916280"/>
            <a:ext cx="669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例子－员工登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2162C-699A-439A-B50B-06B746A6521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四、实例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验证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多模块处理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一个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ction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类多方法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文件上传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防止重复提交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进度条显示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F9780-7182-4FE7-8E85-E968EDC9802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目录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ebWork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入门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ebWork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原理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ebWork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标签库和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ebWork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实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8E3DA-8667-4FEC-8CDD-9F324DB1029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验证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XWork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验证框架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验证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tion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的属性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减弱验证与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tion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之间的耦合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验证信息存储在独立的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ml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文件中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验证出错信息放置在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tion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中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可插拔的验证类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验证机制有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terceptor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实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064E1-23DD-489C-A8A1-7A07AFE676E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已提供的验证类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566640" y="1752480"/>
          <a:ext cx="8001000" cy="4295880"/>
        </p:xfrm>
        <a:graphic>
          <a:graphicData uri="http://schemas.openxmlformats.org/drawingml/2006/table">
            <a:tbl>
              <a:tblPr/>
              <a:tblGrid>
                <a:gridCol w="4000680"/>
                <a:gridCol w="4000320"/>
              </a:tblGrid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lidat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sul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quiredFiel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ield != nul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quiredStr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ield != null &amp; string.length() &gt; 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tRan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teger is in a given ran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ateRan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ate is in a given ran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ma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lid email fiel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R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lid URL fiel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3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xpression/FieldExpress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ny OGNL expression evaluates to tr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g. pet.name != "dog"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llows you to create very powerful validations using just XML and your existing mod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C2822-C5C5-4167-BD72-7ACBC89390B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例子－注册验证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684360" y="2421000"/>
            <a:ext cx="7920000" cy="295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900000" y="2708280"/>
            <a:ext cx="914400" cy="91440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register.j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836720" y="3213000"/>
            <a:ext cx="1222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643280" y="3068640"/>
            <a:ext cx="914400" cy="914400"/>
          </a:xfrm>
          <a:prstGeom prst="foldedCorner">
            <a:avLst>
              <a:gd name="adj" fmla="val 12500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xwork.x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826320" y="2637000"/>
            <a:ext cx="914400" cy="79200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registerSuccess.j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059280" y="2852640"/>
            <a:ext cx="792000" cy="685800"/>
          </a:xfrm>
          <a:prstGeom prst="hexagon">
            <a:avLst>
              <a:gd name="adj" fmla="val 28871"/>
              <a:gd name="vf" fmla="val 115470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register.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211640" y="4581360"/>
            <a:ext cx="1873080" cy="719280"/>
          </a:xfrm>
          <a:prstGeom prst="foldedCorner">
            <a:avLst>
              <a:gd name="adj" fmla="val 12500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Verdana"/>
              </a:rPr>
              <a:t>RegisterAction-validation.x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780000" y="3284640"/>
            <a:ext cx="86328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788000" y="4006800"/>
            <a:ext cx="504720" cy="574560"/>
          </a:xfrm>
          <a:prstGeom prst="downArrow">
            <a:avLst>
              <a:gd name="adj1" fmla="val 50000"/>
              <a:gd name="adj2" fmla="val 28459"/>
            </a:avLst>
          </a:prstGeom>
          <a:solidFill>
            <a:srgbClr val="ffffff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877080" y="3860640"/>
            <a:ext cx="914400" cy="792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register.j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5580000" y="3068280"/>
            <a:ext cx="129708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580000" y="3500280"/>
            <a:ext cx="1297080" cy="792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835960" y="37162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验证出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8CEAF-A1EF-407F-8C39-F43F8B46160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多模块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clude: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使用多个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Work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配置文件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ckage:package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之间可以继承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amespace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：用来区分不同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ckage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中的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B29A7-4FAA-41DB-9A7B-F1BB75A6E40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一个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ction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类多方法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方法要求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：无参数，返回一个字符串类型，抛出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ception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，例如：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ublic String doDefault() throws Excetpion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return INPUT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定义方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zh-CN" sz="1600" spc="-1" strike="noStrike">
                <a:solidFill>
                  <a:srgbClr val="000000"/>
                </a:solidFill>
                <a:latin typeface="Verdana"/>
              </a:rPr>
              <a:t>、直接访问，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ctionName!methodName.action</a:t>
            </a:r>
            <a:r>
              <a:rPr b="0" lang="zh-CN" sz="1600" spc="-1" strike="noStrike">
                <a:solidFill>
                  <a:srgbClr val="000000"/>
                </a:solidFill>
                <a:latin typeface="Verdana"/>
              </a:rPr>
              <a:t>。例如：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register!doDefault.ac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zh-CN" sz="1600" spc="-1" strike="noStrike">
                <a:solidFill>
                  <a:srgbClr val="000000"/>
                </a:solidFill>
                <a:latin typeface="Verdana"/>
              </a:rPr>
              <a:t>、在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XWork</a:t>
            </a:r>
            <a:r>
              <a:rPr b="0" lang="zh-CN" sz="1600" spc="-1" strike="noStrike">
                <a:solidFill>
                  <a:srgbClr val="000000"/>
                </a:solidFill>
                <a:latin typeface="Verdana"/>
              </a:rPr>
              <a:t>中定义，使用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ethod</a:t>
            </a:r>
            <a:r>
              <a:rPr b="0" lang="zh-CN" sz="1600" spc="-1" strike="noStrike">
                <a:solidFill>
                  <a:srgbClr val="000000"/>
                </a:solidFill>
                <a:latin typeface="Verdana"/>
              </a:rPr>
              <a:t>属性。例如：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&lt;action name="registerDefault" class="com.skyon.demo.register.RegisterAction"  method=“doDefault”&gt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…………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AA04C-9954-4176-B7FF-D341C4AB9E0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文件上传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611280" y="2421000"/>
            <a:ext cx="7920000" cy="187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826920" y="2708280"/>
            <a:ext cx="914400" cy="91440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fileUpload.j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763640" y="3213000"/>
            <a:ext cx="1222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643280" y="3284640"/>
            <a:ext cx="914400" cy="914400"/>
          </a:xfrm>
          <a:prstGeom prst="foldedCorner">
            <a:avLst>
              <a:gd name="adj" fmla="val 12500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xwork.x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706920" y="3213000"/>
            <a:ext cx="863640" cy="432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5506920" y="3213000"/>
            <a:ext cx="863640" cy="5032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370560" y="2852640"/>
            <a:ext cx="914400" cy="91440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uploadSuccess.j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986200" y="2852640"/>
            <a:ext cx="792000" cy="685800"/>
          </a:xfrm>
          <a:prstGeom prst="hexagon">
            <a:avLst>
              <a:gd name="adj" fmla="val 28871"/>
              <a:gd name="vf" fmla="val 115470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fileUpload.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3B52B-7C89-4C08-80B8-297B977ACDA3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防止重复提交（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double click 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）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在页面中设置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&lt;ww:token /&gt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&lt;input type="hidden" name="webwork.token.name" value="webwork.token"/&gt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&lt;input type="hidden" name="webwork.token" value="5J573PYGWC131FIM39Y03PYZX5P2Z0JC"/&gt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ession.setAttribute(tokenName, token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配置拦截器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okenIntercept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okenSessionStoreInterceptor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：保存了上次操作的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voc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F388C-5BAD-4D16-BE5F-2FC848B00687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进度条显示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"/>
          <p:cNvSpPr/>
          <p:nvPr/>
        </p:nvSpPr>
        <p:spPr>
          <a:xfrm>
            <a:off x="611280" y="2421000"/>
            <a:ext cx="7920000" cy="187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826920" y="2708280"/>
            <a:ext cx="914400" cy="91440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waitIn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763640" y="3213000"/>
            <a:ext cx="1222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643280" y="3284640"/>
            <a:ext cx="914400" cy="914400"/>
          </a:xfrm>
          <a:prstGeom prst="foldedCorner">
            <a:avLst>
              <a:gd name="adj" fmla="val 12500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xwork.x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06920" y="3213000"/>
            <a:ext cx="863640" cy="432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5506920" y="3068280"/>
            <a:ext cx="865440" cy="647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545240" y="3378240"/>
            <a:ext cx="914400" cy="91440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waitSuccess.j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986200" y="2852640"/>
            <a:ext cx="792000" cy="685800"/>
          </a:xfrm>
          <a:prstGeom prst="hexagon">
            <a:avLst>
              <a:gd name="adj" fmla="val 28871"/>
              <a:gd name="vf" fmla="val 115470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wait.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394320" y="2443320"/>
            <a:ext cx="914400" cy="91440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wait.j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300720" y="3068640"/>
            <a:ext cx="1295640" cy="1008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C9F42-F06A-463A-A886-36A0BFEC1313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总结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重用（松耦合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无侵入）：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tion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接口、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tion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与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eb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无关、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tercept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功能强大：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L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、验证框架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灵活：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rmBean/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数据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odel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、多视图支持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023B5-29C4-4FAB-B475-DD06476BE646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结束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Verdana"/>
                <a:ea typeface="华文行楷"/>
              </a:rPr>
              <a:t>谢谢各位！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8C8A5-E907-41DB-A7CD-24AAB2D92050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ebWork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原理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77504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VC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模式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VC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最初是在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malltalk-80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中被用来构建用户界面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odel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实现了应用领域的业务模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iew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用来展现模型中的数据和内部状态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trol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也称为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alog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，它协调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odel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与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iew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，把用户请求翻译成系统识别的事件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338D9-FE5D-43F4-9119-FD65796CC26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J2ee Web Framework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之现状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ebWork: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最灵活、简单的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eb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框架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pring Web Framework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：最全面的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eb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框架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ruts: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资源最丰富的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eb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框架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apestry: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组件化最完美的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eb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框架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JSF: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最接近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sp.net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的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eb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框架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ortal: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最适合集成的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eb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框架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A6496-4BCA-4B24-8C43-1EFA52939E2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ebWork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概述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"/>
          <p:cNvSpPr/>
          <p:nvPr/>
        </p:nvSpPr>
        <p:spPr>
          <a:xfrm>
            <a:off x="4557600" y="4245120"/>
            <a:ext cx="1905120" cy="1066680"/>
          </a:xfrm>
          <a:prstGeom prst="rect">
            <a:avLst/>
          </a:prstGeom>
          <a:solidFill>
            <a:srgbClr val="ffffcc"/>
          </a:solidFill>
          <a:ln w="28440">
            <a:solidFill>
              <a:srgbClr val="164a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Work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4" name=""/>
          <p:cNvCxnSpPr>
            <a:stCxn id="105" idx="3"/>
            <a:endCxn id="103" idx="1"/>
          </p:cNvCxnSpPr>
          <p:nvPr/>
        </p:nvCxnSpPr>
        <p:spPr>
          <a:xfrm>
            <a:off x="2819160" y="3863880"/>
            <a:ext cx="1724760" cy="9151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"/>
          <p:cNvCxnSpPr>
            <a:stCxn id="105" idx="3"/>
            <a:endCxn id="107" idx="1"/>
          </p:cNvCxnSpPr>
          <p:nvPr/>
        </p:nvCxnSpPr>
        <p:spPr>
          <a:xfrm flipV="1">
            <a:off x="2819160" y="3025440"/>
            <a:ext cx="1724760" cy="838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900000" y="3330720"/>
            <a:ext cx="1905120" cy="1066680"/>
          </a:xfrm>
          <a:prstGeom prst="rect">
            <a:avLst/>
          </a:prstGeom>
          <a:solidFill>
            <a:srgbClr val="ffffcc"/>
          </a:solidFill>
          <a:ln w="28440">
            <a:solidFill>
              <a:srgbClr val="164a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bWork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557600" y="2492280"/>
            <a:ext cx="1905120" cy="1067040"/>
          </a:xfrm>
          <a:prstGeom prst="rect">
            <a:avLst/>
          </a:prstGeom>
          <a:solidFill>
            <a:srgbClr val="ffffcc"/>
          </a:solidFill>
          <a:ln w="28440">
            <a:solidFill>
              <a:srgbClr val="164a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bWork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19720" y="3711600"/>
            <a:ext cx="457200" cy="380880"/>
          </a:xfrm>
          <a:prstGeom prst="upArrow">
            <a:avLst>
              <a:gd name="adj1" fmla="val 50000"/>
              <a:gd name="adj2" fmla="val 47083"/>
            </a:avLst>
          </a:prstGeom>
          <a:solidFill>
            <a:srgbClr val="ffffcc"/>
          </a:solidFill>
          <a:ln w="28440">
            <a:solidFill>
              <a:srgbClr val="164a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843600" y="2492280"/>
            <a:ext cx="304920" cy="990720"/>
          </a:xfrm>
          <a:custGeom>
            <a:avLst/>
            <a:gdLst>
              <a:gd name="textAreaLeft" fmla="*/ 0 w 304920"/>
              <a:gd name="textAreaRight" fmla="*/ 110160 w 30492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164a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843600" y="4245120"/>
            <a:ext cx="304920" cy="990360"/>
          </a:xfrm>
          <a:custGeom>
            <a:avLst/>
            <a:gdLst>
              <a:gd name="textAreaLeft" fmla="*/ 0 w 304920"/>
              <a:gd name="textAreaRight" fmla="*/ 110160 w 304920"/>
              <a:gd name="textAreaTop" fmla="*/ 25560 h 990360"/>
              <a:gd name="textAreaBottom" fmla="*/ 964800 h 99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164a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n-we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9E697-41BF-442B-81CB-7CAE4CECA53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c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00100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请求的动作都对应于一个相应的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一个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tion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是一个独立的工作单元和控制命令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它必需要实现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Work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里的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tion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接口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"/>
          <p:cNvSpPr/>
          <p:nvPr/>
        </p:nvSpPr>
        <p:spPr>
          <a:xfrm>
            <a:off x="1508400" y="3371760"/>
            <a:ext cx="52632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ublic interface Action extends Serializabl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ublic static final String SUCCESS = "success"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ublic static final String NONE = "none"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ublic static final String ERROR = "error"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ublic static final String INPUT = "input"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ublic static final String LOGIN = "login"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ublic String execute() throws Exception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1B1F5-7FB0-4963-A4F9-9751C8B2F80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468360" y="2421000"/>
            <a:ext cx="7920000" cy="187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例子－用户注册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"/>
          <p:cNvSpPr/>
          <p:nvPr/>
        </p:nvSpPr>
        <p:spPr>
          <a:xfrm>
            <a:off x="684360" y="2708280"/>
            <a:ext cx="914400" cy="91440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register.j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620720" y="3213000"/>
            <a:ext cx="1222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500720" y="3284640"/>
            <a:ext cx="914400" cy="914400"/>
          </a:xfrm>
          <a:prstGeom prst="foldedCorner">
            <a:avLst>
              <a:gd name="adj" fmla="val 12500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xwork.x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564000" y="3213000"/>
            <a:ext cx="863640" cy="432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5364000" y="3213000"/>
            <a:ext cx="863640" cy="5032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227640" y="2852640"/>
            <a:ext cx="914400" cy="91440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registerSuccess.j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843280" y="2852640"/>
            <a:ext cx="792000" cy="685800"/>
          </a:xfrm>
          <a:prstGeom prst="hexagon">
            <a:avLst>
              <a:gd name="adj" fmla="val 28871"/>
              <a:gd name="vf" fmla="val 115470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register.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21EE8-9F52-4DAD-9485-9D4E83A7C8A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ctionSuppor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5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提供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ction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常用功能的一个基类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错误消息的支持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ction and field specific erro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eld errors are automatically supported by view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国际化支持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1 resource bundle per a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ervasive UI support for retrieving messag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5EB54-FBCF-4BDB-93FD-604546479A4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ctionContex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一次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tion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调用都会创建一个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tionContex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调用：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ctionContext context = ActionContext.getContext(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在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ebWork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中，它通过包装提供了对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rvlet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的访问：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ttpSession —— context.getSession(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ttpServletRequest parameters —— context.getParameters(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rvletActionContext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，继承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tionContext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。可以直接访问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rvlet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相关的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PI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：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geContext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ttpServletRequest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ttpServletResponse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rvletConfig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rvletContex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BAF65-A3BE-4229-B722-5CCA14B737F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cud</cp:lastModifiedBy>
  <dcterms:modified xsi:type="dcterms:W3CDTF">2005-11-17T14:48:01Z</dcterms:modified>
  <cp:revision>140</cp:revision>
  <dc:subject/>
  <dc:title>PowerPoint Presentation</dc:title>
</cp:coreProperties>
</file>